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32.jpeg" ContentType="image/jpeg"/>
  <Override PartName="/ppt/media/image20.png" ContentType="image/png"/>
  <Override PartName="/ppt/media/image57.png" ContentType="image/png"/>
  <Override PartName="/ppt/media/image60.png" ContentType="image/png"/>
  <Override PartName="/ppt/media/image16.png" ContentType="image/png"/>
  <Override PartName="/ppt/media/image4.png" ContentType="image/png"/>
  <Override PartName="/ppt/media/image21.wmf" ContentType="image/x-wmf"/>
  <Override PartName="/ppt/media/image64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.jpeg" ContentType="image/jpeg"/>
  <Override PartName="/ppt/media/image47.png" ContentType="image/png"/>
  <Override PartName="/ppt/media/image67.png" ContentType="image/png"/>
  <Override PartName="/ppt/media/image66.png" ContentType="image/png"/>
  <Override PartName="/ppt/media/image10.jpeg" ContentType="image/jpeg"/>
  <Override PartName="/ppt/media/image2.png" ContentType="image/png"/>
  <Override PartName="/ppt/media/image14.png" ContentType="image/png"/>
  <Override PartName="/ppt/media/image65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9.png" ContentType="image/png"/>
  <Override PartName="/ppt/media/image22.png" ContentType="image/png"/>
  <Override PartName="/ppt/media/image24.jpeg" ContentType="image/jpeg"/>
  <Override PartName="/ppt/media/image61.png" ContentType="image/png"/>
  <Override PartName="/ppt/media/image49.png" ContentType="image/png"/>
  <Override PartName="/ppt/media/image3.png" ContentType="image/png"/>
  <Override PartName="/ppt/media/image15.png" ContentType="image/png"/>
  <Override PartName="/ppt/media/image19.png" ContentType="image/png"/>
  <Override PartName="/ppt/media/image7.png" ContentType="image/png"/>
  <Override PartName="/ppt/media/image18.png" ContentType="image/png"/>
  <Override PartName="/ppt/media/image42.jpeg" ContentType="image/jpeg"/>
  <Override PartName="/ppt/media/image40.wmf" ContentType="image/x-wmf"/>
  <Override PartName="/ppt/media/image6.png" ContentType="image/png"/>
  <Override PartName="/ppt/media/image23.jpeg" ContentType="image/jpeg"/>
  <Override PartName="/ppt/media/image8.png" ContentType="image/pn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27.wmf" ContentType="image/x-wmf"/>
  <Override PartName="/ppt/media/image11.jpeg" ContentType="image/jpeg"/>
  <Override PartName="/ppt/media/image13.png" ContentType="image/png"/>
  <Override PartName="/ppt/media/image33.wmf" ContentType="image/x-wmf"/>
  <Override PartName="/ppt/media/image17.png" ContentType="image/png"/>
  <Override PartName="/ppt/media/image39.jpeg" ContentType="image/jpeg"/>
  <Override PartName="/ppt/media/image5.png" ContentType="image/png"/>
  <Override PartName="/ppt/media/image35.png" ContentType="image/png"/>
  <Override PartName="/ppt/media/image30.wmf" ContentType="image/x-wmf"/>
  <Override PartName="/ppt/media/image34.wmf" ContentType="image/x-wmf"/>
  <Override PartName="/ppt/media/image12.jpeg" ContentType="image/jpeg"/>
  <Override PartName="/ppt/media/image29.jpeg" ContentType="image/jpeg"/>
  <Override PartName="/ppt/media/image37.wmf" ContentType="image/x-wmf"/>
  <Override PartName="/ppt/media/image41.png" ContentType="image/png"/>
  <Override PartName="/ppt/media/image4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53DC-D478-4E07-A459-16B54D4EB4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B1FC-9B53-44ED-B3F7-3E8C65DAFF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A233-088A-44F1-94D9-986CB785AF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DD3C-BF0E-4FD9-85A2-D27138AA7D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81A5-BAEE-45DB-AE14-4B156FAC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0E8-154D-4D72-884F-3D4784EA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38A7-A3EE-4789-BD7C-8A32EFBA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BF4-EA73-4B8F-A449-A588A6A9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024-A1D3-4C5E-AC1E-7982C277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799-F326-4164-83C6-E540A76C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1B0-075F-41CD-B8BC-49BA82FC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2A3-CC29-4687-A76F-952F54B1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738-CD7E-4DD3-827D-FA69F34F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CBC-18BB-4664-B183-F1FF7966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BA4-3203-47BE-BD4A-F9F91A7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8C3-CF7A-42A7-8084-C5621E4C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75AB-A6AC-437C-B8F3-8B0214D360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7" name="Овал 8" descr="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" name="Овал 7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3" name="Овал 19" descr="">
              <a:hlinkClick r:id="" action="ppaction://hlinkshowjump?jump=lastslide"/>
            </p:cNvPr>
            <p:cNvPicPr/>
            <p:nvPr/>
          </p:nvPicPr>
          <p:blipFill>
            <a:blip r:embed="rId12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53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56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59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3276720" y="1052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fffff"/>
                </a:solidFill>
                <a:latin typeface="Arbat-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bat-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1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02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05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08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Soul Reaver\Desktop\Новая папка\создание шаблонов\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Овал 8"/>
          <p:cNvGrpSpPr/>
          <p:nvPr/>
        </p:nvGrpSpPr>
        <p:grpSpPr>
          <a:xfrm>
            <a:off x="7796160" y="5486400"/>
            <a:ext cx="530280" cy="549360"/>
            <a:chOff x="7796160" y="5486400"/>
            <a:chExt cx="530280" cy="549360"/>
          </a:xfrm>
        </p:grpSpPr>
        <p:pic>
          <p:nvPicPr>
            <p:cNvPr id="150" name="Овал 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96160" y="5486400"/>
              <a:ext cx="530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886880" y="55911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579600" y="5126040"/>
            <a:ext cx="560160" cy="561960"/>
            <a:chOff x="579600" y="5126040"/>
            <a:chExt cx="560160" cy="561960"/>
          </a:xfrm>
        </p:grpSpPr>
        <p:pic>
          <p:nvPicPr>
            <p:cNvPr id="153" name="Овал 7" descr="">
              <a:hlinkClick r:id="" action="ppaction://hlinkshowjump?jump=firstslide"/>
            </p:cNvPr>
            <p:cNvPicPr/>
            <p:nvPr/>
          </p:nvPicPr>
          <p:blipFill>
            <a:blip r:embed="rId4"/>
            <a:stretch/>
          </p:blipFill>
          <p:spPr>
            <a:xfrm>
              <a:off x="579600" y="5126040"/>
              <a:ext cx="560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85800" y="5230800"/>
              <a:ext cx="3556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9"/>
          <p:cNvGrpSpPr/>
          <p:nvPr/>
        </p:nvGrpSpPr>
        <p:grpSpPr>
          <a:xfrm>
            <a:off x="1023840" y="5559480"/>
            <a:ext cx="536760" cy="549360"/>
            <a:chOff x="1023840" y="5559480"/>
            <a:chExt cx="536760" cy="549360"/>
          </a:xfrm>
        </p:grpSpPr>
        <p:pic>
          <p:nvPicPr>
            <p:cNvPr id="156" name="Овал 19" descr="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023840" y="555948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117440" y="5662440"/>
              <a:ext cx="3556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bat-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image" Target="../media/image22.png"/><Relationship Id="rId4" Type="http://schemas.openxmlformats.org/officeDocument/2006/relationships/image" Target="../media/image30.wmf"/><Relationship Id="rId5" Type="http://schemas.openxmlformats.org/officeDocument/2006/relationships/slide" Target="slide6.xml"/><Relationship Id="rId6" Type="http://schemas.openxmlformats.org/officeDocument/2006/relationships/image" Target="../media/image31.png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" Target="slide6.xml"/><Relationship Id="rId5" Type="http://schemas.openxmlformats.org/officeDocument/2006/relationships/image" Target="../media/image35.png"/><Relationship Id="rId6" Type="http://schemas.openxmlformats.org/officeDocument/2006/relationships/slide" Target="slide6.xml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6.xml"/><Relationship Id="rId3" Type="http://schemas.openxmlformats.org/officeDocument/2006/relationships/image" Target="../media/image36.png"/><Relationship Id="rId4" Type="http://schemas.openxmlformats.org/officeDocument/2006/relationships/slide" Target="slide6.xml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22.png"/><Relationship Id="rId3" Type="http://schemas.openxmlformats.org/officeDocument/2006/relationships/slide" Target="slide6.xml"/><Relationship Id="rId4" Type="http://schemas.openxmlformats.org/officeDocument/2006/relationships/image" Target="../media/image38.png"/><Relationship Id="rId5" Type="http://schemas.openxmlformats.org/officeDocument/2006/relationships/slide" Target="slide6.xml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wmf"/><Relationship Id="rId3" Type="http://schemas.openxmlformats.org/officeDocument/2006/relationships/slide" Target="slide6.xml"/><Relationship Id="rId4" Type="http://schemas.openxmlformats.org/officeDocument/2006/relationships/image" Target="../media/image41.png"/><Relationship Id="rId5" Type="http://schemas.openxmlformats.org/officeDocument/2006/relationships/slide" Target="slide6.xml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0.png"/><Relationship Id="rId3" Type="http://schemas.openxmlformats.org/officeDocument/2006/relationships/slide" Target="slide6.xml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2.png"/><Relationship Id="rId3" Type="http://schemas.openxmlformats.org/officeDocument/2006/relationships/image" Target="../media/image54.png"/><Relationship Id="rId4" Type="http://schemas.openxmlformats.org/officeDocument/2006/relationships/slide" Target="slide31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slide" Target="slide33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" Target="slide29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image" Target="../media/image13.png"/><Relationship Id="rId4" Type="http://schemas.openxmlformats.org/officeDocument/2006/relationships/slide" Target="slide4.xml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" Target="slide10.xml"/><Relationship Id="rId4" Type="http://schemas.openxmlformats.org/officeDocument/2006/relationships/image" Target="../media/image16.png"/><Relationship Id="rId5" Type="http://schemas.openxmlformats.org/officeDocument/2006/relationships/slide" Target="slide12.xml"/><Relationship Id="rId6" Type="http://schemas.openxmlformats.org/officeDocument/2006/relationships/image" Target="../media/image17.png"/><Relationship Id="rId7" Type="http://schemas.openxmlformats.org/officeDocument/2006/relationships/slide" Target="slide16.xml"/><Relationship Id="rId8" Type="http://schemas.openxmlformats.org/officeDocument/2006/relationships/image" Target="../media/image18.png"/><Relationship Id="rId9" Type="http://schemas.openxmlformats.org/officeDocument/2006/relationships/slide" Target="slide18.xml"/><Relationship Id="rId10" Type="http://schemas.openxmlformats.org/officeDocument/2006/relationships/image" Target="../media/image19.png"/><Relationship Id="rId11" Type="http://schemas.openxmlformats.org/officeDocument/2006/relationships/slide" Target="slide20.xml"/><Relationship Id="rId12" Type="http://schemas.openxmlformats.org/officeDocument/2006/relationships/image" Target="../media/image20.png"/><Relationship Id="rId13" Type="http://schemas.openxmlformats.org/officeDocument/2006/relationships/slide" Target="slide21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" Target="slide6.xml"/><Relationship Id="rId7" Type="http://schemas.openxmlformats.org/officeDocument/2006/relationships/image" Target="../media/image26.png"/><Relationship Id="rId8" Type="http://schemas.openxmlformats.org/officeDocument/2006/relationships/slide" Target="slide6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wmf"/><Relationship Id="rId3" Type="http://schemas.openxmlformats.org/officeDocument/2006/relationships/slide" Target="slide6.xml"/><Relationship Id="rId4" Type="http://schemas.openxmlformats.org/officeDocument/2006/relationships/image" Target="../media/image28.png"/><Relationship Id="rId5" Type="http://schemas.openxmlformats.org/officeDocument/2006/relationships/slide" Target="slide6.xm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bat-Bold"/>
              </a:rPr>
              <a:t> 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ворческие задания по математик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Витамины и математика»   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1042920" y="3645000"/>
            <a:ext cx="720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 Аплина  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 «В»класс МБОУ СОШ №3 г. Ногинск 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Кирин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математики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4360" y="1599840"/>
            <a:ext cx="74880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100 г пшеничного хлеба содержится 0,27мг витамина В1, в 300 г помидоров- 0,18 мг, а в 200 г сливочного масла- 0,3 мг. Определите минимальную необходимую массу каждого продукта  отдельно для удовлетворения суточной потребности в данном витамине, составляющей для подростка 1,3 мг.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вет:  481,5 г хлеба или 2,2 кг помидоров, или 866,7 г масла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4" name="Стрелка вправо 5">
            <a:hlinkClick r:id="rId1" action="ppaction://hlinksldjump"/>
          </p:cNvPr>
          <p:cNvSpPr/>
          <p:nvPr/>
        </p:nvSpPr>
        <p:spPr>
          <a:xfrm>
            <a:off x="3780000" y="4941720"/>
            <a:ext cx="1500120" cy="7146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4000680" y="50846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Documents and Settings\Татьяна\Local Settings\Temporary Internet Files\Content.IE5\KR4TOP83\MP900405246[1].jpg"/>
          <p:cNvPicPr/>
          <p:nvPr/>
        </p:nvPicPr>
        <p:blipFill>
          <a:blip r:embed="rId1"/>
          <a:stretch/>
        </p:blipFill>
        <p:spPr>
          <a:xfrm rot="18552000">
            <a:off x="841320" y="339480"/>
            <a:ext cx="2046240" cy="178596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551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2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2 сохраняет здоровыми кожу, ногти, волосы, улучшает зрение, способствует росту. Лучшие натуральные источники- молоко, дрожжи, печень, сыр, рыба, яйца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79" name="Picture 4" descr="C:\Documents and Settings\Татьяна\Local Settings\Temporary Internet Files\Content.IE5\KXQFWXIV\MC900436182[1].png"/>
          <p:cNvPicPr/>
          <p:nvPr/>
        </p:nvPicPr>
        <p:blipFill>
          <a:blip r:embed="rId3"/>
          <a:stretch/>
        </p:blipFill>
        <p:spPr>
          <a:xfrm rot="21051000">
            <a:off x="1220760" y="4068720"/>
            <a:ext cx="1828800" cy="1473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Documents and Settings\Татьяна\Local Settings\Temporary Internet Files\Content.IE5\YHO18RAZ\MC900232579[1].wmf"/>
          <p:cNvPicPr/>
          <p:nvPr/>
        </p:nvPicPr>
        <p:blipFill>
          <a:blip r:embed="rId4"/>
          <a:stretch/>
        </p:blipFill>
        <p:spPr>
          <a:xfrm>
            <a:off x="6770520" y="3500280"/>
            <a:ext cx="2373480" cy="1795680"/>
          </a:xfrm>
          <a:prstGeom prst="rect">
            <a:avLst/>
          </a:prstGeom>
          <a:ln w="0">
            <a:noFill/>
          </a:ln>
        </p:spPr>
      </p:pic>
      <p:grpSp>
        <p:nvGrpSpPr>
          <p:cNvPr id="281" name="TextBox 56"/>
          <p:cNvGrpSpPr/>
          <p:nvPr/>
        </p:nvGrpSpPr>
        <p:grpSpPr>
          <a:xfrm>
            <a:off x="3249720" y="5052960"/>
            <a:ext cx="2597040" cy="689040"/>
            <a:chOff x="3249720" y="5052960"/>
            <a:chExt cx="2597040" cy="689040"/>
          </a:xfrm>
        </p:grpSpPr>
        <p:pic>
          <p:nvPicPr>
            <p:cNvPr id="282" name="TextBox 5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249720" y="5052960"/>
              <a:ext cx="2597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429000" y="51436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К глав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дача № 3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75708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000 г коровьего молока содержит суточную норму потребления витамина  В2 для подростка, составляющую 1,5 мг. Сколько миллиграммов этого витамина содержится в 100 г жирного творога если содержание В2 в нем в 2 раза выше, чем в молоке?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вет:0,3 мг)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6" name="Стрелка вправо 4">
            <a:hlinkClick r:id="rId1" action="ppaction://hlinksldjump"/>
          </p:cNvPr>
          <p:cNvSpPr/>
          <p:nvPr/>
        </p:nvSpPr>
        <p:spPr>
          <a:xfrm>
            <a:off x="3924360" y="4797360"/>
            <a:ext cx="1500120" cy="7146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8"/>
          <p:cNvSpPr/>
          <p:nvPr/>
        </p:nvSpPr>
        <p:spPr>
          <a:xfrm>
            <a:off x="4140360" y="49417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итамин С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4360" y="1599840"/>
            <a:ext cx="76327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С необходим для заживления ран, ожогов, предохраняет от многих вирусных и бактериальных инфекций ,увеличивает продолжительность жизни. Больше всего содержится в цитрусовых, ягодах, зелёных овощах, помидорах, картофеле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90" name="Picture 2" descr="C:\Documents and Settings\Татьяна\Local Settings\Temporary Internet Files\Content.IE5\07K9AH6D\MP900438787[1].jpg"/>
          <p:cNvPicPr/>
          <p:nvPr/>
        </p:nvPicPr>
        <p:blipFill>
          <a:blip r:embed="rId1"/>
          <a:stretch/>
        </p:blipFill>
        <p:spPr>
          <a:xfrm>
            <a:off x="5148360" y="3068640"/>
            <a:ext cx="3198600" cy="187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1" name="Picture 3" descr="C:\Documents and Settings\Татьяна\Local Settings\Temporary Internet Files\Content.IE5\KR4TOP83\MC900232461[1].wmf"/>
          <p:cNvPicPr/>
          <p:nvPr/>
        </p:nvPicPr>
        <p:blipFill>
          <a:blip r:embed="rId2"/>
          <a:stretch/>
        </p:blipFill>
        <p:spPr>
          <a:xfrm rot="1567800">
            <a:off x="880920" y="307800"/>
            <a:ext cx="1659240" cy="1138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:\Documents and Settings\Татьяна\Local Settings\Temporary Internet Files\Content.IE5\07K9AH6D\MC900331397[1].wmf"/>
          <p:cNvPicPr/>
          <p:nvPr/>
        </p:nvPicPr>
        <p:blipFill>
          <a:blip r:embed="rId3"/>
          <a:stretch/>
        </p:blipFill>
        <p:spPr>
          <a:xfrm rot="3961800">
            <a:off x="1145160" y="3705840"/>
            <a:ext cx="1655640" cy="1612800"/>
          </a:xfrm>
          <a:prstGeom prst="rect">
            <a:avLst/>
          </a:prstGeom>
          <a:ln w="0">
            <a:noFill/>
          </a:ln>
        </p:spPr>
      </p:pic>
      <p:grpSp>
        <p:nvGrpSpPr>
          <p:cNvPr id="293" name="TextBox 56"/>
          <p:cNvGrpSpPr/>
          <p:nvPr/>
        </p:nvGrpSpPr>
        <p:grpSpPr>
          <a:xfrm>
            <a:off x="3103560" y="5200560"/>
            <a:ext cx="2602080" cy="682560"/>
            <a:chOff x="3103560" y="5200560"/>
            <a:chExt cx="2602080" cy="682560"/>
          </a:xfrm>
        </p:grpSpPr>
        <p:pic>
          <p:nvPicPr>
            <p:cNvPr id="294" name="TextBox 5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103560" y="5200560"/>
              <a:ext cx="26020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286080" y="528624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6" action="ppaction://hlinksldjump"/>
                </a:rPr>
                <a:t>К глав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Задача № 4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держание витамина С в лимоне 40 мг на 100 г продукта, а шиповника в 117,5 раз больше. Найдите массу лимона и шиповника, которые достаточно употреблять каждый день по отдельности, чтобы восполнить суточную норму в 50 мг.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вет: 125 г лимона или 1,1 г шиповника 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98" name="Стрелка вправо 4">
            <a:hlinkClick r:id="rId1" action="ppaction://hlinksldjump"/>
          </p:cNvPr>
          <p:cNvSpPr/>
          <p:nvPr/>
        </p:nvSpPr>
        <p:spPr>
          <a:xfrm>
            <a:off x="4284720" y="5084640"/>
            <a:ext cx="1500120" cy="7146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7"/>
          <p:cNvSpPr/>
          <p:nvPr/>
        </p:nvSpPr>
        <p:spPr>
          <a:xfrm>
            <a:off x="4500720" y="52293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Д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Д организм получает посредством солнечного света или с пищей. Необходимо для укрепления костей и зубов, при совместном приеме с витаминами А и С помогает  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рофилактике простудных заболеваний. Содержится больше всего в рыбьем жире, молоке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02" name="Picture 2" descr="C:\Documents and Settings\Татьяна\Local Settings\Temporary Internet Files\Content.IE5\KR4TOP83\MC900441751[1].png"/>
          <p:cNvPicPr/>
          <p:nvPr/>
        </p:nvPicPr>
        <p:blipFill>
          <a:blip r:embed="rId1"/>
          <a:stretch/>
        </p:blipFill>
        <p:spPr>
          <a:xfrm>
            <a:off x="6227640" y="3860640"/>
            <a:ext cx="2171880" cy="2171880"/>
          </a:xfrm>
          <a:prstGeom prst="rect">
            <a:avLst/>
          </a:prstGeom>
          <a:ln w="0">
            <a:noFill/>
          </a:ln>
        </p:spPr>
      </p:pic>
      <p:grpSp>
        <p:nvGrpSpPr>
          <p:cNvPr id="303" name="TextBox 56"/>
          <p:cNvGrpSpPr/>
          <p:nvPr/>
        </p:nvGrpSpPr>
        <p:grpSpPr>
          <a:xfrm>
            <a:off x="3035160" y="5126040"/>
            <a:ext cx="2597400" cy="684360"/>
            <a:chOff x="3035160" y="5126040"/>
            <a:chExt cx="2597400" cy="684360"/>
          </a:xfrm>
        </p:grpSpPr>
        <p:pic>
          <p:nvPicPr>
            <p:cNvPr id="304" name="TextBox 5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3035160" y="5126040"/>
              <a:ext cx="259740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3214800" y="521496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4" action="ppaction://hlinksldjump"/>
                </a:rPr>
                <a:t>К глав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дача №5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держание витамина Д в курином яйце составляет 2,2 мкг на 100 г продукта, а молока- 0,05 мкг. Определите минимальное количество яиц и массу молока в отдельности, необходимых для удовлетворения суточной потребности организма в 2,5 мкг витамина Д, масса одного яйца 60 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вет: 2 яйца или 5000 г молока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08" name="Стрелка вправо 4">
            <a:hlinkClick r:id="rId1" action="ppaction://hlinksldjump"/>
          </p:cNvPr>
          <p:cNvSpPr/>
          <p:nvPr/>
        </p:nvSpPr>
        <p:spPr>
          <a:xfrm>
            <a:off x="3780000" y="501336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3924360" y="51577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Е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8584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Е помогает выглядеть моложе, замедляя старение клеток, снижает утомляемость, ускоряет заживление ожогов. Лучшие натуральные источники- растительные масла, листовая зелень, цельные злаки, яйца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12" name="Picture 2" descr="C:\Documents and Settings\Татьяна\Local Settings\Temporary Internet Files\Content.IE5\07K9AH6D\MC900090178[1].wmf"/>
          <p:cNvPicPr/>
          <p:nvPr/>
        </p:nvPicPr>
        <p:blipFill>
          <a:blip r:embed="rId1"/>
          <a:stretch/>
        </p:blipFill>
        <p:spPr>
          <a:xfrm>
            <a:off x="6300720" y="3789360"/>
            <a:ext cx="2081160" cy="1365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C:\Documents and Settings\Татьяна\Local Settings\Temporary Internet Files\Content.IE5\KXQFWXIV\MC900436182[1].png"/>
          <p:cNvPicPr/>
          <p:nvPr/>
        </p:nvPicPr>
        <p:blipFill>
          <a:blip r:embed="rId2"/>
          <a:stretch/>
        </p:blipFill>
        <p:spPr>
          <a:xfrm rot="21051000">
            <a:off x="1220760" y="3924360"/>
            <a:ext cx="1828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314" name="TextBox 56"/>
          <p:cNvGrpSpPr/>
          <p:nvPr/>
        </p:nvGrpSpPr>
        <p:grpSpPr>
          <a:xfrm>
            <a:off x="3322800" y="4986360"/>
            <a:ext cx="2597040" cy="682560"/>
            <a:chOff x="3322800" y="4986360"/>
            <a:chExt cx="2597040" cy="682560"/>
          </a:xfrm>
        </p:grpSpPr>
        <p:pic>
          <p:nvPicPr>
            <p:cNvPr id="315" name="TextBox 5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3322800" y="4986360"/>
              <a:ext cx="2597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500280" y="507204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К глав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дача №6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одержание витамина Е на 100 г подсолнечного масла составляет 67 мг, в моркови-0,63 мг. Суточная потребность для подростка составляет 10 мг. Удовлетворит ли эту потребность блюдо, приготовленное из 200 г свежей моркови и 2 столовых ложек масла?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одно столовой ложке умещается 20 г масла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вет: 28,1 мг, да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19" name="Стрелка вправо 4">
            <a:hlinkClick r:id="rId1" action="ppaction://hlinksldjump"/>
          </p:cNvPr>
          <p:cNvSpPr/>
          <p:nvPr/>
        </p:nvSpPr>
        <p:spPr>
          <a:xfrm>
            <a:off x="3780000" y="4797360"/>
            <a:ext cx="1500120" cy="7146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8"/>
          <p:cNvSpPr/>
          <p:nvPr/>
        </p:nvSpPr>
        <p:spPr>
          <a:xfrm>
            <a:off x="3995640" y="494172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3" descr="C:\Documents and Settings\Татьяна\Local Settings\Temporary Internet Files\Content.IE5\07K9AH6D\MP900402878[1].jpg"/>
          <p:cNvPicPr/>
          <p:nvPr/>
        </p:nvPicPr>
        <p:blipFill>
          <a:blip r:embed="rId1"/>
          <a:stretch/>
        </p:blipFill>
        <p:spPr>
          <a:xfrm>
            <a:off x="611280" y="549360"/>
            <a:ext cx="1944720" cy="15112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C:\Documents and Settings\Татьяна\Local Settings\Temporary Internet Files\Content.IE5\KR4TOP83\MC900411900[1].wmf"/>
          <p:cNvPicPr/>
          <p:nvPr/>
        </p:nvPicPr>
        <p:blipFill>
          <a:blip r:embed="rId2"/>
          <a:stretch/>
        </p:blipFill>
        <p:spPr>
          <a:xfrm>
            <a:off x="5219640" y="335772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К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10920" y="1773360"/>
            <a:ext cx="7389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К помогает в предупреждении внутренних кровоизлияний, способствует правильной свертываемости крови. Содержится больше всего в йогурте, яичном желтке, соевом масле, рыбьем жире</a:t>
            </a: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grpSp>
        <p:nvGrpSpPr>
          <p:cNvPr id="325" name="TextBox 56"/>
          <p:cNvGrpSpPr/>
          <p:nvPr/>
        </p:nvGrpSpPr>
        <p:grpSpPr>
          <a:xfrm>
            <a:off x="2462040" y="5052960"/>
            <a:ext cx="2597400" cy="689040"/>
            <a:chOff x="2462040" y="5052960"/>
            <a:chExt cx="2597400" cy="689040"/>
          </a:xfrm>
        </p:grpSpPr>
        <p:pic>
          <p:nvPicPr>
            <p:cNvPr id="326" name="TextBox 5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462040" y="5052960"/>
              <a:ext cx="25974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643120" y="51436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К глав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1" descr="Копия x_a13d0f45"/>
          <p:cNvPicPr/>
          <p:nvPr/>
        </p:nvPicPr>
        <p:blipFill>
          <a:blip r:embed="rId1"/>
          <a:stretch/>
        </p:blipFill>
        <p:spPr>
          <a:xfrm>
            <a:off x="5867280" y="1773360"/>
            <a:ext cx="203220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bat-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ыполнила:  Аплина  Алина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9 класс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МБОУ СОШ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№3 г. Ногинск МО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уководитель: Кирина Ольга Владимировна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учитель математики 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дача №7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bat-Bold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 100 г земляники содержится 0,12 мг витамина К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уточная потребность его потребления для подростков составляет 45 мкг. Какое минимальное количество этой 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ягоды в граммах достаточно съесть, чтобы восполнить необходимую норму?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вет: 37,5 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0" name="Стрелка вправо 4">
            <a:hlinkClick r:id="rId1" action="ppaction://hlinksldjump"/>
          </p:cNvPr>
          <p:cNvSpPr/>
          <p:nvPr/>
        </p:nvSpPr>
        <p:spPr>
          <a:xfrm>
            <a:off x="4143240" y="4643280"/>
            <a:ext cx="1500480" cy="7146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4143240" y="47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Стрелка вправо 5">
            <a:hlinkClick r:id="rId1" action="ppaction://hlinksldjump"/>
          </p:cNvPr>
          <p:cNvSpPr/>
          <p:nvPr/>
        </p:nvSpPr>
        <p:spPr>
          <a:xfrm>
            <a:off x="3564000" y="530064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03280" y="1413000"/>
            <a:ext cx="6337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лово витамины, означающее жизненно важные для организма вещества, происходит от латинског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it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жизн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”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ти вещества содержатся в продуктах питания животного и растительного происхождения. Их достаточно много и каждый имеет свое название, иногда длинное и трудночитаемое. Поэтому в медицинской практике приняты буквенные обозначения этих веществ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5" name="TextBox 5"/>
          <p:cNvSpPr/>
          <p:nvPr/>
        </p:nvSpPr>
        <p:spPr>
          <a:xfrm>
            <a:off x="3708360" y="5445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Решите уравнения. Используя найденные множества решений и данные таблицы, соотнесите названия витаминов и их обозначения. Ознакомьтесь с другой полезной информацией о происхождении витаминов и их влияния на организм человека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38" name="Стрелка вправо 3">
            <a:hlinkClick r:id="rId1" action="ppaction://hlinksldjump"/>
          </p:cNvPr>
          <p:cNvSpPr/>
          <p:nvPr/>
        </p:nvSpPr>
        <p:spPr>
          <a:xfrm>
            <a:off x="3708360" y="4941720"/>
            <a:ext cx="1500120" cy="7146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"/>
          <p:cNvSpPr/>
          <p:nvPr/>
        </p:nvSpPr>
        <p:spPr>
          <a:xfrm>
            <a:off x="3857040" y="50846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C:\Users\toshiba\Pictures\iCABIRPGI.jpg"/>
          <p:cNvPicPr/>
          <p:nvPr/>
        </p:nvPicPr>
        <p:blipFill>
          <a:blip r:embed="rId3"/>
          <a:stretch/>
        </p:blipFill>
        <p:spPr>
          <a:xfrm>
            <a:off x="5219640" y="3357720"/>
            <a:ext cx="29433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Напомним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2" name="Стрелка вправо 3"/>
          <p:cNvSpPr/>
          <p:nvPr/>
        </p:nvSpPr>
        <p:spPr>
          <a:xfrm>
            <a:off x="3708360" y="501336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">
            <a:hlinkClick r:id="rId1" action="ppaction://hlinksldjump"/>
          </p:cNvPr>
          <p:cNvSpPr/>
          <p:nvPr/>
        </p:nvSpPr>
        <p:spPr>
          <a:xfrm>
            <a:off x="4067280" y="515772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Объект 2"/>
          <p:cNvGrpSpPr/>
          <p:nvPr/>
        </p:nvGrpSpPr>
        <p:grpSpPr>
          <a:xfrm>
            <a:off x="463680" y="2054160"/>
            <a:ext cx="8242200" cy="4402080"/>
            <a:chOff x="463680" y="2054160"/>
            <a:chExt cx="8242200" cy="4402080"/>
          </a:xfrm>
        </p:grpSpPr>
        <p:pic>
          <p:nvPicPr>
            <p:cNvPr id="345" name="Объект 2" descr=""/>
            <p:cNvPicPr/>
            <p:nvPr/>
          </p:nvPicPr>
          <p:blipFill>
            <a:blip r:embed="rId3"/>
            <a:stretch/>
          </p:blipFill>
          <p:spPr>
            <a:xfrm>
              <a:off x="463680" y="2054160"/>
              <a:ext cx="8242200" cy="44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68360" y="2060640"/>
              <a:ext cx="8229600" cy="43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ешите уравнения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55280" y="1600200"/>
            <a:ext cx="37400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85784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0" name="Пятиугольник 3"/>
          <p:cNvSpPr/>
          <p:nvPr/>
        </p:nvSpPr>
        <p:spPr>
          <a:xfrm>
            <a:off x="611280" y="191628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17" y="0"/>
                </a:lnTo>
                <a:lnTo>
                  <a:pt x="21600" y="10800"/>
                </a:lnTo>
                <a:lnTo>
                  <a:pt x="147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468360" y="1916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TextBox 5" descr=""/>
          <p:cNvPicPr/>
          <p:nvPr/>
        </p:nvPicPr>
        <p:blipFill>
          <a:blip r:embed="rId1"/>
          <a:stretch/>
        </p:blipFill>
        <p:spPr>
          <a:xfrm>
            <a:off x="1468440" y="1908000"/>
            <a:ext cx="3036960" cy="4164120"/>
          </a:xfrm>
          <a:prstGeom prst="rect">
            <a:avLst/>
          </a:prstGeom>
          <a:ln w="0">
            <a:noFill/>
          </a:ln>
        </p:spPr>
      </p:pic>
      <p:sp>
        <p:nvSpPr>
          <p:cNvPr id="353" name="Пятиугольник 6"/>
          <p:cNvSpPr/>
          <p:nvPr/>
        </p:nvSpPr>
        <p:spPr>
          <a:xfrm>
            <a:off x="4906800" y="1936800"/>
            <a:ext cx="792360" cy="503280"/>
          </a:xfrm>
          <a:custGeom>
            <a:avLst/>
            <a:gdLst>
              <a:gd name="textAreaLeft" fmla="*/ 0 w 792360"/>
              <a:gd name="textAreaRight" fmla="*/ 792720 w 792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39" y="0"/>
                </a:lnTo>
                <a:lnTo>
                  <a:pt x="21600" y="10800"/>
                </a:lnTo>
                <a:lnTo>
                  <a:pt x="147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4927680" y="1906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TextBox 8" descr=""/>
          <p:cNvPicPr/>
          <p:nvPr/>
        </p:nvPicPr>
        <p:blipFill>
          <a:blip r:embed="rId2"/>
          <a:stretch/>
        </p:blipFill>
        <p:spPr>
          <a:xfrm>
            <a:off x="5815080" y="1901880"/>
            <a:ext cx="3036960" cy="4164120"/>
          </a:xfrm>
          <a:prstGeom prst="rect">
            <a:avLst/>
          </a:prstGeom>
          <a:ln w="0">
            <a:noFill/>
          </a:ln>
        </p:spPr>
      </p:pic>
      <p:sp>
        <p:nvSpPr>
          <p:cNvPr id="356" name="Стрелка вправо 9">
            <a:hlinkClick r:id="rId3" action="ppaction://hlinksldjump"/>
          </p:cNvPr>
          <p:cNvSpPr/>
          <p:nvPr/>
        </p:nvSpPr>
        <p:spPr>
          <a:xfrm>
            <a:off x="3851280" y="501336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10">
            <a:hlinkClick r:id="rId4" action="ppaction://hlinksldjump"/>
          </p:cNvPr>
          <p:cNvSpPr/>
          <p:nvPr/>
        </p:nvSpPr>
        <p:spPr>
          <a:xfrm>
            <a:off x="4072680" y="51577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ешите уравнения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59" name="Пятиугольник 3"/>
          <p:cNvSpPr/>
          <p:nvPr/>
        </p:nvSpPr>
        <p:spPr>
          <a:xfrm>
            <a:off x="684360" y="1989000"/>
            <a:ext cx="792000" cy="503280"/>
          </a:xfrm>
          <a:custGeom>
            <a:avLst/>
            <a:gdLst>
              <a:gd name="textAreaLeft" fmla="*/ 0 w 792000"/>
              <a:gd name="textAreaRight" fmla="*/ 792360 w 792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39" y="0"/>
                </a:lnTo>
                <a:lnTo>
                  <a:pt x="21600" y="10800"/>
                </a:lnTo>
                <a:lnTo>
                  <a:pt x="147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TextBox 5" descr=""/>
          <p:cNvPicPr/>
          <p:nvPr/>
        </p:nvPicPr>
        <p:blipFill>
          <a:blip r:embed="rId1"/>
          <a:stretch/>
        </p:blipFill>
        <p:spPr>
          <a:xfrm>
            <a:off x="1468440" y="1908000"/>
            <a:ext cx="3036960" cy="4164120"/>
          </a:xfrm>
          <a:prstGeom prst="rect">
            <a:avLst/>
          </a:prstGeom>
          <a:ln w="0">
            <a:noFill/>
          </a:ln>
        </p:spPr>
      </p:pic>
      <p:sp>
        <p:nvSpPr>
          <p:cNvPr id="361" name="Пятиугольник 6"/>
          <p:cNvSpPr/>
          <p:nvPr/>
        </p:nvSpPr>
        <p:spPr>
          <a:xfrm>
            <a:off x="4859280" y="1916280"/>
            <a:ext cx="792360" cy="504720"/>
          </a:xfrm>
          <a:custGeom>
            <a:avLst/>
            <a:gdLst>
              <a:gd name="textAreaLeft" fmla="*/ 0 w 792360"/>
              <a:gd name="textAreaRight" fmla="*/ 792720 w 792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17" y="0"/>
                </a:lnTo>
                <a:lnTo>
                  <a:pt x="21600" y="10800"/>
                </a:lnTo>
                <a:lnTo>
                  <a:pt x="147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4927680" y="1906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TextBox 8" descr=""/>
          <p:cNvPicPr/>
          <p:nvPr/>
        </p:nvPicPr>
        <p:blipFill>
          <a:blip r:embed="rId2"/>
          <a:stretch/>
        </p:blipFill>
        <p:spPr>
          <a:xfrm>
            <a:off x="5815080" y="1901880"/>
            <a:ext cx="3036960" cy="42242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9"/>
          <p:cNvSpPr/>
          <p:nvPr/>
        </p:nvSpPr>
        <p:spPr>
          <a:xfrm>
            <a:off x="684360" y="198900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₁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трелка вправо 10">
            <a:hlinkClick r:id="rId3" action="ppaction://hlinksldjump"/>
          </p:cNvPr>
          <p:cNvSpPr/>
          <p:nvPr/>
        </p:nvSpPr>
        <p:spPr>
          <a:xfrm>
            <a:off x="3995640" y="501336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11">
            <a:hlinkClick r:id="rId4" action="ppaction://hlinksldjump"/>
          </p:cNvPr>
          <p:cNvSpPr/>
          <p:nvPr/>
        </p:nvSpPr>
        <p:spPr>
          <a:xfrm>
            <a:off x="4217400" y="51577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ешите уравнения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68" name="Пятиугольник 3"/>
          <p:cNvSpPr/>
          <p:nvPr/>
        </p:nvSpPr>
        <p:spPr>
          <a:xfrm>
            <a:off x="684360" y="1916280"/>
            <a:ext cx="792000" cy="50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17" y="0"/>
                </a:lnTo>
                <a:lnTo>
                  <a:pt x="21600" y="10800"/>
                </a:lnTo>
                <a:lnTo>
                  <a:pt x="1471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5" descr=""/>
          <p:cNvPicPr/>
          <p:nvPr/>
        </p:nvPicPr>
        <p:blipFill>
          <a:blip r:embed="rId1"/>
          <a:stretch/>
        </p:blipFill>
        <p:spPr>
          <a:xfrm>
            <a:off x="1468440" y="1908000"/>
            <a:ext cx="3036960" cy="4164120"/>
          </a:xfrm>
          <a:prstGeom prst="rect">
            <a:avLst/>
          </a:prstGeom>
          <a:ln w="0">
            <a:noFill/>
          </a:ln>
        </p:spPr>
      </p:pic>
      <p:sp>
        <p:nvSpPr>
          <p:cNvPr id="370" name="Пятиугольник 6"/>
          <p:cNvSpPr/>
          <p:nvPr/>
        </p:nvSpPr>
        <p:spPr>
          <a:xfrm>
            <a:off x="4906800" y="1936800"/>
            <a:ext cx="792360" cy="503280"/>
          </a:xfrm>
          <a:custGeom>
            <a:avLst/>
            <a:gdLst>
              <a:gd name="textAreaLeft" fmla="*/ 0 w 792360"/>
              <a:gd name="textAreaRight" fmla="*/ 792720 w 792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39" y="0"/>
                </a:lnTo>
                <a:lnTo>
                  <a:pt x="21600" y="10800"/>
                </a:lnTo>
                <a:lnTo>
                  <a:pt x="1473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4927680" y="1906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TextBox 8" descr=""/>
          <p:cNvPicPr/>
          <p:nvPr/>
        </p:nvPicPr>
        <p:blipFill>
          <a:blip r:embed="rId2"/>
          <a:stretch/>
        </p:blipFill>
        <p:spPr>
          <a:xfrm>
            <a:off x="5815080" y="1901880"/>
            <a:ext cx="3036960" cy="4017960"/>
          </a:xfrm>
          <a:prstGeom prst="rect">
            <a:avLst/>
          </a:prstGeom>
          <a:ln w="0">
            <a:noFill/>
          </a:ln>
        </p:spPr>
      </p:pic>
      <p:sp>
        <p:nvSpPr>
          <p:cNvPr id="373" name="TextBox 9"/>
          <p:cNvSpPr/>
          <p:nvPr/>
        </p:nvSpPr>
        <p:spPr>
          <a:xfrm>
            <a:off x="471600" y="1916280"/>
            <a:ext cx="7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право 10">
            <a:hlinkClick r:id="rId3" action="ppaction://hlinksldjump"/>
          </p:cNvPr>
          <p:cNvSpPr/>
          <p:nvPr/>
        </p:nvSpPr>
        <p:spPr>
          <a:xfrm>
            <a:off x="3924360" y="501336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1">
            <a:hlinkClick r:id="rId4" action="ppaction://hlinksldjump"/>
          </p:cNvPr>
          <p:cNvSpPr/>
          <p:nvPr/>
        </p:nvSpPr>
        <p:spPr>
          <a:xfrm>
            <a:off x="4217400" y="51577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043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лезная информация о витаминах</a:t>
            </a:r>
            <a:r>
              <a:rPr b="0" lang="en-US" sz="4000" spc="-1" strike="noStrike">
                <a:solidFill>
                  <a:srgbClr val="ffffff"/>
                </a:solidFill>
                <a:latin typeface="Arbat-Bold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9528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bat-Bold"/>
                <a:hlinkClick r:id="rId1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11280" y="1700280"/>
          <a:ext cx="7848360" cy="3279600"/>
        </p:xfrm>
        <a:graphic>
          <a:graphicData uri="http://schemas.openxmlformats.org/drawingml/2006/table">
            <a:tbl>
              <a:tblPr/>
              <a:tblGrid>
                <a:gridCol w="603000"/>
                <a:gridCol w="538200"/>
                <a:gridCol w="1092240"/>
                <a:gridCol w="1094040"/>
                <a:gridCol w="2376360"/>
                <a:gridCol w="2144520"/>
              </a:tblGrid>
              <a:tr h="58716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жество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зное воздействие на организм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кты питания, содержащи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бофлав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ствует процессу роста, улучшает зрение и состав кров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, молоко, яйца, печень, бобов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тин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ожительно влияет на рост человека, состояние волос и ногтей. Полезен для зр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ивочное масло, яйца, рыба, икра, печен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984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коф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ятствует развитию сердечно-сосудистых заболеваний, рака. Помогает бороться со стресс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ительные масла, печень трески, орехи, облепи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379" name="Стрелка вправо 4">
            <a:hlinkClick r:id="rId2" action="ppaction://hlinksldjump"/>
          </p:cNvPr>
          <p:cNvSpPr/>
          <p:nvPr/>
        </p:nvSpPr>
        <p:spPr>
          <a:xfrm>
            <a:off x="3851280" y="530064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5"/>
          <p:cNvSpPr/>
          <p:nvPr/>
        </p:nvSpPr>
        <p:spPr>
          <a:xfrm>
            <a:off x="4145040" y="54450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-36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лезная информация о витаминах</a:t>
            </a:r>
            <a:r>
              <a:rPr b="0" lang="en-US" sz="3200" spc="-1" strike="noStrike">
                <a:solidFill>
                  <a:srgbClr val="ffffff"/>
                </a:solidFill>
                <a:latin typeface="Arbat-Bol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39640" y="1197000"/>
          <a:ext cx="8064720" cy="3456000"/>
        </p:xfrm>
        <a:graphic>
          <a:graphicData uri="http://schemas.openxmlformats.org/drawingml/2006/table">
            <a:tbl>
              <a:tblPr/>
              <a:tblGrid>
                <a:gridCol w="619200"/>
                <a:gridCol w="554040"/>
                <a:gridCol w="1130400"/>
                <a:gridCol w="1173240"/>
                <a:gridCol w="2384280"/>
                <a:gridCol w="2203560"/>
              </a:tblGrid>
              <a:tr h="6048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жество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нят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езное воздействие на организм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кты питания, содержащие витам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5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₁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бал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ализует состав крови и укрепляет нервную систем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со, рыба, печень, сы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0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ьцифер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упреждает развитие заболеваний костной системы, повышает сопротивляемость костей к перелом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чень, рыба, сливочное масло, икра, яйца (желток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09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скорбино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ышает устойчивость организма к неблагоприятным факторам окружающей сре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повник, черная смородина, цитрусовые, капуста, зелен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383" name="TextBox 8"/>
          <p:cNvSpPr/>
          <p:nvPr/>
        </p:nvSpPr>
        <p:spPr>
          <a:xfrm>
            <a:off x="971640" y="4653000"/>
            <a:ext cx="78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оследней строке таблицы напишите обозначение оставшегося витамина, его полное название и корни уравнения с ним связан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TextBox 56"/>
          <p:cNvGrpSpPr/>
          <p:nvPr/>
        </p:nvGrpSpPr>
        <p:grpSpPr>
          <a:xfrm>
            <a:off x="3097080" y="5357880"/>
            <a:ext cx="2505240" cy="682560"/>
            <a:chOff x="3097080" y="5357880"/>
            <a:chExt cx="2505240" cy="682560"/>
          </a:xfrm>
        </p:grpSpPr>
        <p:pic>
          <p:nvPicPr>
            <p:cNvPr id="385" name="TextBox 5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97080" y="5357880"/>
              <a:ext cx="2505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276720" y="5445000"/>
              <a:ext cx="22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3" action="ppaction://hlinksldjump"/>
                </a:rPr>
                <a:t>К глав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28760" y="292860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е секрет, что витамины играют огромную роль в правильном функционировании нашего организма. Поэтому каждый из нас старается вводить в свой рацион как можно больше продуктов, богатых витаминами и минералами. А некоторые люди, тщательно заботящиеся о своем здоровье, ежедневно принимают витаминные комплексы, в которые входят практически все витамины.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2"/>
          <a:stretch/>
        </p:blipFill>
        <p:spPr>
          <a:xfrm>
            <a:off x="5286240" y="1000080"/>
            <a:ext cx="2428920" cy="1643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3"/>
          <a:stretch/>
        </p:blipFill>
        <p:spPr>
          <a:xfrm>
            <a:off x="785880" y="571680"/>
            <a:ext cx="2928960" cy="1944360"/>
          </a:xfrm>
          <a:prstGeom prst="rect">
            <a:avLst/>
          </a:prstGeom>
          <a:ln w="0">
            <a:noFill/>
          </a:ln>
        </p:spPr>
      </p:pic>
      <p:sp>
        <p:nvSpPr>
          <p:cNvPr id="390" name="Стрелка вправо 7">
            <a:hlinkClick r:id="rId4" action="ppaction://hlinksldjump"/>
          </p:cNvPr>
          <p:cNvSpPr/>
          <p:nvPr/>
        </p:nvSpPr>
        <p:spPr>
          <a:xfrm>
            <a:off x="3500280" y="5429160"/>
            <a:ext cx="1500480" cy="7146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8"/>
          <p:cNvSpPr/>
          <p:nvPr/>
        </p:nvSpPr>
        <p:spPr>
          <a:xfrm>
            <a:off x="3576600" y="5572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"/>
          <p:cNvSpPr/>
          <p:nvPr/>
        </p:nvSpPr>
        <p:spPr>
          <a:xfrm>
            <a:off x="3143160" y="2858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Цель рабо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бразователь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: повторение действий с обыкновенными дробями, закрепление умений и навыков нахождения процентов от числа; применение полученных знаний при выполнении практических заданий;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воспитатель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: формирование организованности, аккуратности, навыков здорового образа жизни;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развивающи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: формирование логического мышления, умения работать с различными источниками информации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514440" indent="-5144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"/>
          <p:cNvPicPr/>
          <p:nvPr/>
        </p:nvPicPr>
        <p:blipFill>
          <a:blip r:embed="rId1"/>
          <a:stretch/>
        </p:blipFill>
        <p:spPr>
          <a:xfrm>
            <a:off x="714240" y="642960"/>
            <a:ext cx="1428840" cy="19843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1357200" y="2571480"/>
            <a:ext cx="642960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С (аскорбиновая кислота)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ля здорового человека потребность в витамине С составляет 70-100 мг; для людей, занимающихся спортом – 150-200 мг; для беременных и кормящих женщин – 120-150 мг; для людей, больных инфекционными заболеваниями – 500-2000 м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3"/>
          <a:stretch/>
        </p:blipFill>
        <p:spPr>
          <a:xfrm>
            <a:off x="6500880" y="4286160"/>
            <a:ext cx="1928880" cy="1710000"/>
          </a:xfrm>
          <a:prstGeom prst="rect">
            <a:avLst/>
          </a:prstGeom>
          <a:ln w="0">
            <a:noFill/>
          </a:ln>
        </p:spPr>
      </p:pic>
      <p:sp>
        <p:nvSpPr>
          <p:cNvPr id="396" name="Стрелка вправо 5">
            <a:hlinkClick r:id="rId4" action="ppaction://hlinksldjump"/>
          </p:cNvPr>
          <p:cNvSpPr/>
          <p:nvPr/>
        </p:nvSpPr>
        <p:spPr>
          <a:xfrm>
            <a:off x="3571920" y="535788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6"/>
          <p:cNvSpPr/>
          <p:nvPr/>
        </p:nvSpPr>
        <p:spPr>
          <a:xfrm>
            <a:off x="3614760" y="5500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142640" y="2357280"/>
            <a:ext cx="7543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Н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требность в витамине Н в сутки для зд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8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Суточная норма витамина В8 составляет 1-1,5 грамм. орового человека составляет 150-300 мк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642960" y="642960"/>
            <a:ext cx="1857240" cy="1658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4"/>
          <a:stretch/>
        </p:blipFill>
        <p:spPr>
          <a:xfrm>
            <a:off x="5857920" y="4500720"/>
            <a:ext cx="2500200" cy="1525320"/>
          </a:xfrm>
          <a:prstGeom prst="rect">
            <a:avLst/>
          </a:prstGeom>
          <a:ln w="0">
            <a:noFill/>
          </a:ln>
        </p:spPr>
      </p:pic>
      <p:sp>
        <p:nvSpPr>
          <p:cNvPr id="401" name="Стрелка вправо 5">
            <a:hlinkClick r:id="rId5" action="ppaction://hlinksldjump"/>
          </p:cNvPr>
          <p:cNvSpPr/>
          <p:nvPr/>
        </p:nvSpPr>
        <p:spPr>
          <a:xfrm>
            <a:off x="3571920" y="5429160"/>
            <a:ext cx="1500120" cy="7146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"/>
          <p:cNvSpPr/>
          <p:nvPr/>
        </p:nvSpPr>
        <p:spPr>
          <a:xfrm>
            <a:off x="3614760" y="5572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500040" y="24998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D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требность в данном витамине у здоровых взрослых людей пока точно не установлена. Для детей она составляет примерно 0,0025-0,01 мг в сутки. Люди, которые живут в районах Крайнего Севера, а также те, которые страдают хрупкостью костей, нуждаются в нем более остро. В сутки им нужно принимать этот витамин в два раза больше, чем обычно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3071880" y="500040"/>
            <a:ext cx="2928960" cy="1928880"/>
          </a:xfrm>
          <a:prstGeom prst="rect">
            <a:avLst/>
          </a:prstGeom>
          <a:ln w="0">
            <a:noFill/>
          </a:ln>
        </p:spPr>
      </p:pic>
      <p:sp>
        <p:nvSpPr>
          <p:cNvPr id="405" name="Стрелка вправо 4">
            <a:hlinkClick r:id="rId3" action="ppaction://hlinksldjump"/>
          </p:cNvPr>
          <p:cNvSpPr/>
          <p:nvPr/>
        </p:nvSpPr>
        <p:spPr>
          <a:xfrm>
            <a:off x="3786120" y="535788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3757680" y="5500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642600" y="571680"/>
            <a:ext cx="74293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12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зрослому человеку в сутки достаточно 3 мкг витамина В12, для женщин в период лактации – 4 мкг. Получается, что одного грамма витамина В12 вполне хватает на всю жизнь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5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требность у здорового взрослого человека составляет около 6-8 м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8"/>
          <a:stretch/>
        </p:blipFill>
        <p:spPr>
          <a:xfrm>
            <a:off x="6215040" y="2000160"/>
            <a:ext cx="2357640" cy="1954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9"/>
          <a:stretch/>
        </p:blipFill>
        <p:spPr>
          <a:xfrm>
            <a:off x="5214960" y="4357800"/>
            <a:ext cx="2214720" cy="1593720"/>
          </a:xfrm>
          <a:prstGeom prst="rect">
            <a:avLst/>
          </a:prstGeom>
          <a:ln w="0">
            <a:noFill/>
          </a:ln>
        </p:spPr>
      </p:pic>
      <p:sp>
        <p:nvSpPr>
          <p:cNvPr id="410" name="Стрелка вправо 7"/>
          <p:cNvSpPr/>
          <p:nvPr/>
        </p:nvSpPr>
        <p:spPr>
          <a:xfrm>
            <a:off x="3429000" y="5429160"/>
            <a:ext cx="1500120" cy="7146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3472200" y="5572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714240" y="714240"/>
            <a:ext cx="70725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а В15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орма составляет от 25 до 150 м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3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на составляет примерно 5 мг для людей, ведущих обычный образ жизни; для людей, занимающихся спортом, тяжелым физическим трудом, при беременности и в период кормления грудью, при недостатке в организме белка она возрастает до 10 м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4"/>
          <a:stretch/>
        </p:blipFill>
        <p:spPr>
          <a:xfrm>
            <a:off x="5786280" y="50004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5"/>
          <a:stretch/>
        </p:blipFill>
        <p:spPr>
          <a:xfrm>
            <a:off x="5072040" y="3857760"/>
            <a:ext cx="2643120" cy="18032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"/>
          <p:cNvPicPr/>
          <p:nvPr/>
        </p:nvPicPr>
        <p:blipFill>
          <a:blip r:embed="rId6"/>
          <a:stretch/>
        </p:blipFill>
        <p:spPr>
          <a:xfrm>
            <a:off x="1214280" y="3857760"/>
            <a:ext cx="2286000" cy="1643040"/>
          </a:xfrm>
          <a:prstGeom prst="rect">
            <a:avLst/>
          </a:prstGeom>
          <a:ln w="0">
            <a:noFill/>
          </a:ln>
        </p:spPr>
      </p:pic>
      <p:sp>
        <p:nvSpPr>
          <p:cNvPr id="416" name="Стрелка вправо 6"/>
          <p:cNvSpPr/>
          <p:nvPr/>
        </p:nvSpPr>
        <p:spPr>
          <a:xfrm>
            <a:off x="3643200" y="5500800"/>
            <a:ext cx="1500480" cy="714240"/>
          </a:xfrm>
          <a:prstGeom prst="rightArrow">
            <a:avLst>
              <a:gd name="adj1" fmla="val 50000"/>
              <a:gd name="adj2" fmla="val 5002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7"/>
          <p:cNvSpPr/>
          <p:nvPr/>
        </p:nvSpPr>
        <p:spPr>
          <a:xfrm>
            <a:off x="3614760" y="56437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857160" y="642960"/>
            <a:ext cx="7500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6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отребность в витамине В6 у здорового человека составляет 1,7-2,2 мг в сутки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А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ля детей подросткового возраста витамин А нужен в количестве 1мг в сутки, а беременные и кормящие женщины 2,5 мг. Люди занимающиеся спортом, должны принимать витамин А не менее 3 мг в сутки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419" name="Picture 3" descr=""/>
          <p:cNvPicPr/>
          <p:nvPr/>
        </p:nvPicPr>
        <p:blipFill>
          <a:blip r:embed="rId4"/>
          <a:stretch/>
        </p:blipFill>
        <p:spPr>
          <a:xfrm>
            <a:off x="6429240" y="4143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5"/>
          <a:stretch/>
        </p:blipFill>
        <p:spPr>
          <a:xfrm>
            <a:off x="5857920" y="1357200"/>
            <a:ext cx="2071800" cy="1428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6"/>
          <a:stretch/>
        </p:blipFill>
        <p:spPr>
          <a:xfrm>
            <a:off x="1000080" y="4214880"/>
            <a:ext cx="1643040" cy="1528560"/>
          </a:xfrm>
          <a:prstGeom prst="rect">
            <a:avLst/>
          </a:prstGeom>
          <a:ln w="0">
            <a:noFill/>
          </a:ln>
        </p:spPr>
      </p:pic>
      <p:sp>
        <p:nvSpPr>
          <p:cNvPr id="422" name="Стрелка вправо 6"/>
          <p:cNvSpPr/>
          <p:nvPr/>
        </p:nvSpPr>
        <p:spPr>
          <a:xfrm>
            <a:off x="4214880" y="5214960"/>
            <a:ext cx="1500120" cy="7142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7"/>
          <p:cNvSpPr/>
          <p:nvPr/>
        </p:nvSpPr>
        <p:spPr>
          <a:xfrm>
            <a:off x="4257720" y="5357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642960" y="571320"/>
            <a:ext cx="7858080" cy="52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2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Норма витамина В2 составляет 1,3-2,4 м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1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Дневная потребность взрослого здорового мужчины составляет 1,6-2,5 мг, а женщины – 2,2 мг. Для ребенка она колеблется от 0,5 до 1,7 м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425" name="Picture 3" descr=""/>
          <p:cNvPicPr/>
          <p:nvPr/>
        </p:nvPicPr>
        <p:blipFill>
          <a:blip r:embed="rId8"/>
          <a:stretch/>
        </p:blipFill>
        <p:spPr>
          <a:xfrm>
            <a:off x="5929200" y="1357200"/>
            <a:ext cx="2000520" cy="15717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9"/>
          <a:stretch/>
        </p:blipFill>
        <p:spPr>
          <a:xfrm>
            <a:off x="2928960" y="14288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"/>
          <p:cNvPicPr/>
          <p:nvPr/>
        </p:nvPicPr>
        <p:blipFill>
          <a:blip r:embed="rId10"/>
          <a:stretch/>
        </p:blipFill>
        <p:spPr>
          <a:xfrm>
            <a:off x="5572080" y="4000680"/>
            <a:ext cx="2428920" cy="1428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"/>
          <p:cNvPicPr/>
          <p:nvPr/>
        </p:nvPicPr>
        <p:blipFill>
          <a:blip r:embed="rId11"/>
          <a:stretch/>
        </p:blipFill>
        <p:spPr>
          <a:xfrm>
            <a:off x="1214280" y="4214880"/>
            <a:ext cx="2857680" cy="17143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56"/>
          <p:cNvSpPr/>
          <p:nvPr/>
        </p:nvSpPr>
        <p:spPr>
          <a:xfrm>
            <a:off x="3571920" y="5786280"/>
            <a:ext cx="236232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глав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Алгебра 8 класс  «Задания для обучения и развития учащихся» Лебединцева Е.А. и Беленкова Е.Ю. Интеллект –Центр 2011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ru-RU" sz="2000" spc="-1" strike="noStrike">
                <a:solidFill>
                  <a:srgbClr val="ffc000"/>
                </a:solidFill>
                <a:latin typeface="Arbat-Bold"/>
              </a:rPr>
              <a:t> сайт «http://pedsovet.su/»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00"/>
                </a:solidFill>
                <a:uFillTx/>
                <a:latin typeface="Calibri"/>
              </a:rPr>
              <a:t>http://www.absolute-kazakstan.kz/mebel/school/doska/6.jpg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432" name="TextBox 56"/>
          <p:cNvSpPr/>
          <p:nvPr/>
        </p:nvSpPr>
        <p:spPr>
          <a:xfrm>
            <a:off x="3214800" y="5500800"/>
            <a:ext cx="2361960" cy="520560"/>
          </a:xfrm>
          <a:prstGeom prst="rect">
            <a:avLst/>
          </a:prstGeom>
          <a:solidFill>
            <a:srgbClr val="00b0f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глав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5"/>
          <a:stretch/>
        </p:blipFill>
        <p:spPr>
          <a:xfrm>
            <a:off x="2714760" y="3286080"/>
            <a:ext cx="3773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держание работы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429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dobe Arabic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dobe Arabic"/>
                <a:hlinkClick r:id="rId2" action="ppaction://hlinksldjump"/>
              </a:rPr>
              <a:t>Гимн математике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bat-Bold"/>
                <a:hlinkClick r:id="rId4" action="ppaction://hlinksldjump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bat-Bold"/>
                <a:hlinkClick r:id="rId5" action="ppaction://hlinksldjump"/>
              </a:rPr>
              <a:t>Витамины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bat-Bol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bat-Bold"/>
              </a:rPr>
              <a:t>Список литературы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12" name="Picture 2" descr="C:\Users\toshiba\Pictures\iCAU60EL0.jpg"/>
          <p:cNvPicPr/>
          <p:nvPr/>
        </p:nvPicPr>
        <p:blipFill>
          <a:blip r:embed="rId8"/>
          <a:stretch/>
        </p:blipFill>
        <p:spPr>
          <a:xfrm>
            <a:off x="5715000" y="1357200"/>
            <a:ext cx="2181240" cy="2229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C:\Users\toshiba\Pictures\iCANOCR65.jpg"/>
          <p:cNvPicPr/>
          <p:nvPr/>
        </p:nvPicPr>
        <p:blipFill>
          <a:blip r:embed="rId9"/>
          <a:stretch/>
        </p:blipFill>
        <p:spPr>
          <a:xfrm>
            <a:off x="4643280" y="3500280"/>
            <a:ext cx="2143440" cy="214344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5"/>
          <p:cNvSpPr/>
          <p:nvPr/>
        </p:nvSpPr>
        <p:spPr>
          <a:xfrm>
            <a:off x="1000080" y="264312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  Суточная Норма Витам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6" name="AutoShape 71"/>
          <p:cNvSpPr/>
          <p:nvPr/>
        </p:nvSpPr>
        <p:spPr>
          <a:xfrm>
            <a:off x="684360" y="549360"/>
            <a:ext cx="7704000" cy="442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560" bIns="-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64000" y="691920"/>
            <a:ext cx="252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bat-Bold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Чтоб водить корабли ,        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Чтобы в небо взлететь ,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Надо многое знать ,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И при этом ,  и при этом ,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Вы заметьте-ка ,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Очень важная наука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Ма-те-ма-ти-ка!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Почему корабли 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Не садятся на мель ,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А по курсу идут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Сквозь туман и метель ?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Потому что,  потому что,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Вы заметьте-ка ,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Капитанам помогает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Ма-те-ма-ти-ка!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Чтоб врачом,  моряком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Или лётчиком стать.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Надо прежде всего 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Математику знать.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И на свете нет профессий 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Вы заметьте-ка,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Где бы вам не пригодилась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bat-Bold"/>
              </a:rPr>
              <a:t>Математика!   </a:t>
            </a:r>
            <a:endParaRPr b="0" lang="en-US" sz="14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18" name="Rectangle 75"/>
          <p:cNvSpPr/>
          <p:nvPr/>
        </p:nvSpPr>
        <p:spPr>
          <a:xfrm>
            <a:off x="900000" y="2133720"/>
            <a:ext cx="863640" cy="865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76"/>
          <p:cNvSpPr txBox="1"/>
          <p:nvPr/>
        </p:nvSpPr>
        <p:spPr>
          <a:xfrm rot="19644600">
            <a:off x="699840" y="3263760"/>
            <a:ext cx="189540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 x B x 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0" name="WordArt 77"/>
          <p:cNvSpPr txBox="1"/>
          <p:nvPr/>
        </p:nvSpPr>
        <p:spPr>
          <a:xfrm rot="1699200">
            <a:off x="6156360" y="980640"/>
            <a:ext cx="201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 + 23 = 3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 = 33 - 2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X = 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1" name="Oval 79"/>
          <p:cNvSpPr/>
          <p:nvPr/>
        </p:nvSpPr>
        <p:spPr>
          <a:xfrm>
            <a:off x="7164360" y="3429000"/>
            <a:ext cx="144000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6156360" y="3860640"/>
            <a:ext cx="1008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0"/>
          <p:cNvSpPr/>
          <p:nvPr/>
        </p:nvSpPr>
        <p:spPr>
          <a:xfrm>
            <a:off x="6156360" y="1773360"/>
            <a:ext cx="129528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Box 56"/>
          <p:cNvGrpSpPr/>
          <p:nvPr/>
        </p:nvGrpSpPr>
        <p:grpSpPr>
          <a:xfrm>
            <a:off x="858960" y="4919760"/>
            <a:ext cx="2603520" cy="699840"/>
            <a:chOff x="858960" y="4919760"/>
            <a:chExt cx="2603520" cy="699840"/>
          </a:xfrm>
        </p:grpSpPr>
        <p:pic>
          <p:nvPicPr>
            <p:cNvPr id="225" name="TextBox 5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858960" y="4919760"/>
              <a:ext cx="2603520" cy="69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1042920" y="50133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Arial"/>
                  <a:hlinkClick r:id="rId4" action="ppaction://hlinksldjump"/>
                </a:rPr>
                <a:t>К глав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итамины</a:t>
            </a:r>
            <a:endParaRPr b="0" lang="en-US" sz="28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28" name="Содержимое 12" descr=""/>
          <p:cNvPicPr/>
          <p:nvPr/>
        </p:nvPicPr>
        <p:blipFill>
          <a:blip r:embed="rId1"/>
          <a:stretch/>
        </p:blipFill>
        <p:spPr>
          <a:xfrm>
            <a:off x="2724120" y="1609560"/>
            <a:ext cx="2622600" cy="669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58000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grpSp>
        <p:nvGrpSpPr>
          <p:cNvPr id="230" name="TextBox 3"/>
          <p:cNvGrpSpPr/>
          <p:nvPr/>
        </p:nvGrpSpPr>
        <p:grpSpPr>
          <a:xfrm>
            <a:off x="2633760" y="2163600"/>
            <a:ext cx="2786040" cy="768600"/>
            <a:chOff x="2633760" y="2163600"/>
            <a:chExt cx="2786040" cy="768600"/>
          </a:xfrm>
        </p:grpSpPr>
        <p:pic>
          <p:nvPicPr>
            <p:cNvPr id="231" name="TextBox 3" descr=""/>
            <p:cNvPicPr/>
            <p:nvPr/>
          </p:nvPicPr>
          <p:blipFill>
            <a:blip r:embed="rId2"/>
            <a:stretch/>
          </p:blipFill>
          <p:spPr>
            <a:xfrm>
              <a:off x="2633760" y="2163600"/>
              <a:ext cx="27860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843280" y="2276640"/>
              <a:ext cx="25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Calibri"/>
                  <a:hlinkClick r:id="rId3" action="ppaction://hlinksldjump"/>
                </a:rPr>
                <a:t>Витамин В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TextBox 4"/>
          <p:cNvGrpSpPr/>
          <p:nvPr/>
        </p:nvGrpSpPr>
        <p:grpSpPr>
          <a:xfrm>
            <a:off x="2633760" y="2816280"/>
            <a:ext cx="2786040" cy="768240"/>
            <a:chOff x="2633760" y="2816280"/>
            <a:chExt cx="2786040" cy="768240"/>
          </a:xfrm>
        </p:grpSpPr>
        <p:pic>
          <p:nvPicPr>
            <p:cNvPr id="234" name="TextBox 4" descr=""/>
            <p:cNvPicPr/>
            <p:nvPr/>
          </p:nvPicPr>
          <p:blipFill>
            <a:blip r:embed="rId4"/>
            <a:stretch/>
          </p:blipFill>
          <p:spPr>
            <a:xfrm>
              <a:off x="2633760" y="2816280"/>
              <a:ext cx="2786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2843280" y="2924280"/>
              <a:ext cx="25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Витамин В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Прямоугольник 5"/>
          <p:cNvGrpSpPr/>
          <p:nvPr/>
        </p:nvGrpSpPr>
        <p:grpSpPr>
          <a:xfrm>
            <a:off x="2633760" y="3462480"/>
            <a:ext cx="2786040" cy="768240"/>
            <a:chOff x="2633760" y="3462480"/>
            <a:chExt cx="2786040" cy="768240"/>
          </a:xfrm>
        </p:grpSpPr>
        <p:pic>
          <p:nvPicPr>
            <p:cNvPr id="237" name="Прямоугольник 5" descr=""/>
            <p:cNvPicPr/>
            <p:nvPr/>
          </p:nvPicPr>
          <p:blipFill>
            <a:blip r:embed="rId6"/>
            <a:stretch/>
          </p:blipFill>
          <p:spPr>
            <a:xfrm>
              <a:off x="2633760" y="3462480"/>
              <a:ext cx="2786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2843280" y="3573360"/>
              <a:ext cx="25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Витамин 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Прямоугольник 6"/>
          <p:cNvGrpSpPr/>
          <p:nvPr/>
        </p:nvGrpSpPr>
        <p:grpSpPr>
          <a:xfrm>
            <a:off x="2633760" y="4108320"/>
            <a:ext cx="2786040" cy="768600"/>
            <a:chOff x="2633760" y="4108320"/>
            <a:chExt cx="2786040" cy="768600"/>
          </a:xfrm>
        </p:grpSpPr>
        <p:pic>
          <p:nvPicPr>
            <p:cNvPr id="240" name="Прямоугольник 6" descr=""/>
            <p:cNvPicPr/>
            <p:nvPr/>
          </p:nvPicPr>
          <p:blipFill>
            <a:blip r:embed="rId8"/>
            <a:stretch/>
          </p:blipFill>
          <p:spPr>
            <a:xfrm>
              <a:off x="2633760" y="4108320"/>
              <a:ext cx="27860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2843280" y="4221000"/>
              <a:ext cx="25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Calibri"/>
                  <a:hlinkClick r:id="rId9" action="ppaction://hlinksldjump"/>
                </a:rPr>
                <a:t>Витамин 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Прямоугольник 7"/>
          <p:cNvGrpSpPr/>
          <p:nvPr/>
        </p:nvGrpSpPr>
        <p:grpSpPr>
          <a:xfrm>
            <a:off x="2633760" y="4754520"/>
            <a:ext cx="2786040" cy="774720"/>
            <a:chOff x="2633760" y="4754520"/>
            <a:chExt cx="2786040" cy="774720"/>
          </a:xfrm>
        </p:grpSpPr>
        <p:pic>
          <p:nvPicPr>
            <p:cNvPr id="243" name="Прямоугольник 7" descr=""/>
            <p:cNvPicPr/>
            <p:nvPr/>
          </p:nvPicPr>
          <p:blipFill>
            <a:blip r:embed="rId10"/>
            <a:stretch/>
          </p:blipFill>
          <p:spPr>
            <a:xfrm>
              <a:off x="2633760" y="4754520"/>
              <a:ext cx="27860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843280" y="4869000"/>
              <a:ext cx="252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Calibri"/>
                  <a:hlinkClick r:id="rId11" action="ppaction://hlinksldjump"/>
                </a:rPr>
                <a:t>Витамин 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TextBox 8"/>
          <p:cNvGrpSpPr/>
          <p:nvPr/>
        </p:nvGrpSpPr>
        <p:grpSpPr>
          <a:xfrm>
            <a:off x="615960" y="957240"/>
            <a:ext cx="1852560" cy="774720"/>
            <a:chOff x="615960" y="957240"/>
            <a:chExt cx="1852560" cy="774720"/>
          </a:xfrm>
        </p:grpSpPr>
        <p:pic>
          <p:nvPicPr>
            <p:cNvPr id="246" name="TextBox 8" descr=""/>
            <p:cNvPicPr/>
            <p:nvPr/>
          </p:nvPicPr>
          <p:blipFill>
            <a:blip r:embed="rId12"/>
            <a:stretch/>
          </p:blipFill>
          <p:spPr>
            <a:xfrm>
              <a:off x="615960" y="957240"/>
              <a:ext cx="18525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26920" y="107172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Обще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C:\Documents and Settings\Татьяна\Local Settings\Temporary Internet Files\Content.IE5\OHU7C1AJ\MC900250839[1].wmf"/>
          <p:cNvPicPr/>
          <p:nvPr/>
        </p:nvPicPr>
        <p:blipFill>
          <a:blip r:embed="rId1"/>
          <a:stretch/>
        </p:blipFill>
        <p:spPr>
          <a:xfrm>
            <a:off x="0" y="-285840"/>
            <a:ext cx="2649600" cy="20019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6337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А (ретинол)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28280"/>
            <a:ext cx="46195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А предохраняет от куриной слепоты и слабого зрения, повышает сопротивляемость инфекциям органов дыхания, способствует росту и укреплению костей ,здоровью кожи, волос, зубов. Лучшие натуральные источники- рыбий жир, печень, морковь, яйца, молоко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pic>
        <p:nvPicPr>
          <p:cNvPr id="251" name="Picture 4" descr="C:\Documents and Settings\Татьяна\Local Settings\Temporary Internet Files\Content.IE5\KXQFWXIV\MC900436182[1].png"/>
          <p:cNvPicPr/>
          <p:nvPr/>
        </p:nvPicPr>
        <p:blipFill>
          <a:blip r:embed="rId2"/>
          <a:stretch/>
        </p:blipFill>
        <p:spPr>
          <a:xfrm>
            <a:off x="1214280" y="4572000"/>
            <a:ext cx="1828800" cy="14731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7"/>
          <p:cNvSpPr/>
          <p:nvPr/>
        </p:nvSpPr>
        <p:spPr>
          <a:xfrm>
            <a:off x="7572240" y="5000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C:\Users\toshiba\Pictures\iCAZKU45Q2345.jpg"/>
          <p:cNvPicPr/>
          <p:nvPr/>
        </p:nvPicPr>
        <p:blipFill>
          <a:blip r:embed="rId3"/>
          <a:stretch/>
        </p:blipFill>
        <p:spPr>
          <a:xfrm>
            <a:off x="5724360" y="1989000"/>
            <a:ext cx="2162520" cy="19447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2"/>
          <p:cNvSpPr/>
          <p:nvPr/>
        </p:nvSpPr>
        <p:spPr>
          <a:xfrm>
            <a:off x="415512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C:\Users\toshiba\Pictures\vitamina.jpg"/>
          <p:cNvPicPr/>
          <p:nvPr/>
        </p:nvPicPr>
        <p:blipFill>
          <a:blip r:embed="rId4"/>
          <a:stretch/>
        </p:blipFill>
        <p:spPr>
          <a:xfrm>
            <a:off x="5219640" y="1628640"/>
            <a:ext cx="3014640" cy="3529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Documents and Settings\Татьяна\Local Settings\Temporary Internet Files\Content.IE5\GTAVKHEZ\MC900441751[1].png"/>
          <p:cNvPicPr/>
          <p:nvPr/>
        </p:nvPicPr>
        <p:blipFill>
          <a:blip r:embed="rId5"/>
          <a:stretch/>
        </p:blipFill>
        <p:spPr>
          <a:xfrm>
            <a:off x="6786720" y="4500720"/>
            <a:ext cx="2357280" cy="2357280"/>
          </a:xfrm>
          <a:prstGeom prst="rect">
            <a:avLst/>
          </a:prstGeom>
          <a:ln w="0">
            <a:noFill/>
          </a:ln>
        </p:spPr>
      </p:pic>
      <p:grpSp>
        <p:nvGrpSpPr>
          <p:cNvPr id="257" name="TextBox 56"/>
          <p:cNvGrpSpPr/>
          <p:nvPr/>
        </p:nvGrpSpPr>
        <p:grpSpPr>
          <a:xfrm>
            <a:off x="2749680" y="5340240"/>
            <a:ext cx="2597040" cy="682560"/>
            <a:chOff x="2749680" y="5340240"/>
            <a:chExt cx="2597040" cy="682560"/>
          </a:xfrm>
        </p:grpSpPr>
        <p:pic>
          <p:nvPicPr>
            <p:cNvPr id="258" name="TextBox 56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749680" y="5340240"/>
              <a:ext cx="2597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2928960" y="54291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8" action="ppaction://hlinksldjump"/>
                </a:rPr>
                <a:t>К глав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дача №1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Известно, что в 100 г говяжьей печени содержится 8,2 мг витамина А, а его суточная норма потребления для подростков около 800 мкг. Сколько граммов печени составит суточную норму?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Ответ:  9.8 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Памятка. Единицы измерения массы: 1 мг=0,001 г;  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 мкг = 0,000001 г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2" name="Стрелка вправо 4">
            <a:hlinkClick r:id="rId1" action="ppaction://hlinksldjump"/>
          </p:cNvPr>
          <p:cNvSpPr/>
          <p:nvPr/>
        </p:nvSpPr>
        <p:spPr>
          <a:xfrm>
            <a:off x="4140360" y="5157720"/>
            <a:ext cx="1500120" cy="71460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3"/>
          <p:cNvSpPr/>
          <p:nvPr/>
        </p:nvSpPr>
        <p:spPr>
          <a:xfrm>
            <a:off x="4361040" y="53006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1</a:t>
            </a:r>
            <a:endParaRPr b="0" lang="en-US" sz="32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6920" y="1642680"/>
            <a:ext cx="7274160" cy="32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Витамин В1 способствует росту, нормализует работу нервной системы, мышц и сердца. Содержится более всего в цельной пшенице, сухих дрожжах, большинстве овощей и молоке.</a:t>
            </a:r>
            <a:endParaRPr b="0" lang="en-US" sz="2000" spc="-1" strike="noStrike">
              <a:solidFill>
                <a:srgbClr val="ffffff"/>
              </a:solidFill>
              <a:latin typeface="Arbat-Bold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6300720" y="105264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C:\Documents and Settings\Татьяна\Local Settings\Temporary Internet Files\Content.IE5\GTAVKHEZ\MC900441751[1].png"/>
          <p:cNvPicPr/>
          <p:nvPr/>
        </p:nvPicPr>
        <p:blipFill>
          <a:blip r:embed="rId1"/>
          <a:stretch/>
        </p:blipFill>
        <p:spPr>
          <a:xfrm rot="3296400">
            <a:off x="-49680" y="-294480"/>
            <a:ext cx="2193840" cy="2357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Documents and Settings\Татьяна\Local Settings\Temporary Internet Files\Content.IE5\07K9AH6D\MC900441872[1].wmf"/>
          <p:cNvPicPr/>
          <p:nvPr/>
        </p:nvPicPr>
        <p:blipFill>
          <a:blip r:embed="rId2"/>
          <a:stretch/>
        </p:blipFill>
        <p:spPr>
          <a:xfrm rot="21011400">
            <a:off x="6094080" y="3897360"/>
            <a:ext cx="2286000" cy="2012760"/>
          </a:xfrm>
          <a:prstGeom prst="rect">
            <a:avLst/>
          </a:prstGeom>
          <a:ln w="0">
            <a:noFill/>
          </a:ln>
        </p:spPr>
      </p:pic>
      <p:grpSp>
        <p:nvGrpSpPr>
          <p:cNvPr id="269" name="TextBox 56"/>
          <p:cNvGrpSpPr/>
          <p:nvPr/>
        </p:nvGrpSpPr>
        <p:grpSpPr>
          <a:xfrm>
            <a:off x="2822400" y="5052960"/>
            <a:ext cx="2597400" cy="689040"/>
            <a:chOff x="2822400" y="5052960"/>
            <a:chExt cx="2597400" cy="689040"/>
          </a:xfrm>
        </p:grpSpPr>
        <p:pic>
          <p:nvPicPr>
            <p:cNvPr id="270" name="TextBox 5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822400" y="5052960"/>
              <a:ext cx="259740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3000240" y="514368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5" action="ppaction://hlinksldjump"/>
                </a:rPr>
                <a:t>К глав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8T08:05:38Z</dcterms:created>
  <dc:creator>Soul Reaver; Irenus</dc:creator>
  <dc:description/>
  <dc:language>en-US</dc:language>
  <cp:lastModifiedBy>ольга</cp:lastModifiedBy>
  <dcterms:modified xsi:type="dcterms:W3CDTF">2013-01-26T08:20:34Z</dcterms:modified>
  <cp:revision>30</cp:revision>
  <dc:subject/>
  <dc:title>Классная доска</dc:title>
</cp:coreProperties>
</file>